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067B9-F866-4DAB-B56E-1BDDB8AB2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4E9C2-A5E1-4842-9421-87891AF3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6ED45-0BAA-4679-8A78-C94134C41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F73E7-4128-496F-8FC2-30EC40535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1E0C5-0846-44DA-9DD1-F4ED2B164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E70F9-DFAC-4B84-8F1F-19EA4904E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1B3EF-30A7-445B-BAC1-C10E847C6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3F6D3-9555-44F3-867B-923F4B952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34EDF-32DC-4646-AB84-55F852047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D00F1-7DBD-4FCD-B2D5-E84ED5DA5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DE12D-4641-461D-B900-810CC0748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98AB-FEC1-48D9-8689-BCCB811D8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D992-BBB5-4E0D-BD34-24C7BB848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5248A-79B8-47BF-BFCA-E2885819A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26A88-5980-48ED-A0CE-DE6251FEB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F7566-0F44-457E-AFFC-17ECADD89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2CDEA-E654-43E6-A2AD-7C977C634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FAA9F-8812-49B5-9289-C9440E716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FFC58-30F7-4D1C-B951-DDDA18AE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ED21C-9EA1-4D44-BEEB-A30AC6B6D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9519-B2B0-46FA-9493-BFF0917D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4829-85C4-4EC5-B168-15A7B848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AB136-978E-4730-9E9B-0824E478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F73A-8F21-4C2E-84B7-5713CF79A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3D86-E7ED-4DF9-B76C-BBF750EBBE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94C0-2250-4892-9C54-009DBBD383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you’ve ever wanted to know about university life</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third-year student’s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roaches</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high school knowledge and notes (don’t throw either aw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Taking notes vs. doing problem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ation, doing problems, applying concepts, drawing diagrams and flowchart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processing vs. Shallow processing</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exercises &gt; Taking notes &gt; highlighting &gt; reading &gt; skim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dterm and Exam Preparation</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d based on performance, not on effor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as much as possible from lectures (Prof.) and from T.A. (format, length, cont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ing: Midterms (15-30%) Final (30-50%)</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over lectures notes, extra comments, pass exams (what to focus on/emphasize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format (MC, short answer, questions similar to lectures and HW, mostly memorizatio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terms (1-2 hours), Exams (3 hou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dterm and Exam Preparation</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t least 4 days to a week)</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ize and prepare for unexpected circumstanc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l curv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arefully, marks allott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nk out tactic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to the point (point form for short answ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udgeting</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hand textbooks may come with past midterms, notes, assignm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for OSAP early so funding will arrive by the first day of clas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ary and scholarshi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ing, meal plans, transport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tudy positions (OS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 and A session</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listen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genda</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Styles and Class Form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Note taking and Study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and Final Exam Prepar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nd A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laimer</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tips and strategies that I discuss in this tutorial are according to my own experience and from my point of view.  Things are subject to change depending to your own background, circumstances and the university that you are going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gh school Class vs. University Lecture</a:t>
            </a:r>
            <a:endParaRPr b="0" lang="en-US" sz="34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r class size (100 to &gt;500)</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o room size to size of Imperial Oil Auditoriu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responsible for your own educ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your own schedule and choose your class t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eaching Style</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style, could be onlin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c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interaction, clicke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or no repetition on cont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d knowl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pport groups</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Centre (Writing/Math Aid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rial grou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office hou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sh grou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ce grou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ship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ing Prepared</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lectures and tutorials (Don’t ski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lecture aids and notes before clas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ew lectures and review material from last clas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ab, know the steps and why, make flow chart even if you aren’t allow to take notebook out of lab</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ssignments before tutorial and ask 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te-taking</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write at the expense of listening (print lectures to fill in or bring laptop, legible slides 4-6/page, font not too smal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bbreviated notes and make extra comment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iss something, come back later and ask a neighbour or Prof. during break</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possible midterm/exam 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udying</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could’ve done better if I had more time to study.”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lecture the day of (positive reinforcem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add to lecture notes with corresponding content in textbook</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place, organize work space, no distractions, lighting)</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s (re-listening to lecture recording/video vs. taking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9:54:50Z</dcterms:created>
  <dc:creator>LukT</dc:creator>
  <dc:description/>
  <dc:language>en-US</dc:language>
  <cp:lastModifiedBy>LukT</cp:lastModifiedBy>
  <dcterms:modified xsi:type="dcterms:W3CDTF">2010-06-04T14:58:33Z</dcterms:modified>
  <cp:revision>18</cp:revision>
  <dc:subject/>
  <dc:title>Tutorial</dc:title>
</cp:coreProperties>
</file>